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FFD-54D9-44C4-9CD6-3D67EC5C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D8C-12D0-4310-A451-B492FE70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06CB6-36C8-475F-8643-2330DC7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228CB-3B24-470E-BC2F-D4C4E92D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4C798-5F94-49CA-A9D9-16D1232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DB419-F111-40DC-88EB-BFFCE7B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6A02C-37A8-4010-8621-149C3A0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D566D-0D36-4408-8E6F-576F95A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08CCF-6E72-4E72-BB8F-52AD10E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F86BA-FC92-45BD-8B3E-CA703831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2A9CC-872E-4607-895B-F1AFB29B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D6785-4028-4B3E-BFD4-FA442DEE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F6E-1610-4ADF-895A-AB470DBE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CFCBE-E995-4019-834B-4D345A03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CF2F7F-AFEA-42C0-BD88-E4158603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091CE-D67F-498E-8ABF-5128CAFB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7FC97-41DB-4993-AFA2-33E36D1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9A2ECD-4DB5-4103-B1C9-2AD8ADAB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4E3EE-03D6-4281-BEAD-C19AE8C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E7AF9-0282-4A25-8E46-B9C2B05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7A971-6352-48F8-BBD0-BD12D61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0B83D-07BC-4935-AF5A-BC575FE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0671F-45E9-41E4-8A3C-D0A3FFF1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ACF-485A-45B2-B75D-F7797112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EBE7D-1604-4F79-BC43-346538D2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06D19-1351-4779-AB03-EF768879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2B368-F8E7-411C-AC6A-16DAFB1C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987D1-48B9-4F4C-95F7-2C29209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4C39F-5079-4A74-AC6E-4B7F69C7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03448-6CA3-4613-BCE9-2275AD0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5D62B-7F2B-42E2-B398-28C4186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F5CF69-0628-4C7B-8ACF-BA94AB2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4BE49-083C-49A7-95AF-1090DDAA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72DF4-2E9C-4833-ABDD-7DDB12A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6E80-F7A8-4FFF-8F6D-61F1A2761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94C47-4539-4ED5-B13B-C30257A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4F7A3-CBF8-4983-A08F-FBEC5705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00559-740D-47B2-AF41-D86FA527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DDBC7-BBF2-4C1B-B239-B99AC112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D8DDEF-B022-4FFE-8996-A45EF5D4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1A0045-0554-4FCF-AC73-6A716BAB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D8493C-9903-4173-92A8-F5E02D7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DDCCCD-63EB-421B-AA91-1AE33139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44375-AFD3-45C5-93F2-5BF2465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22B6A4-3AF6-4042-879B-32132EA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25C2-0AE2-4C20-8592-899A836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CFA98-6BA8-4E3D-8089-34B4AD6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025D34-346B-43FD-8C99-B41116C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D372AA-9D98-418F-B2F9-D3643B5C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0D6F5D-D873-4A9E-BB70-CD5D9FBE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89EC7-D42F-4C3A-8E9C-C06034E5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75AE0B-85FD-414A-8870-5A2C2AF6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D9B95-D137-4D51-B7A7-F1C82CBD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A3112E-6271-4855-9E9B-7CF2E72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80558-FD67-4759-884B-5548AE8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77247D-4ADB-4A47-BA3C-2CA55168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D247C-4648-48EB-A571-1BC858E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B9FF34-22C3-4E83-88F1-E8AD731E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EB344B-4F1A-4755-87D2-9B53364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8F6238-8456-4ADF-80C8-D443241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8E355F-A24B-4453-90D5-F5CEF93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EF6545-5297-487F-9BFB-C1EF553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6077C-3A0F-4A69-8F58-6DACD9CF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845340-75F1-4FC0-B136-86C1E7A0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041AC8-931D-4495-B7AC-435537BA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6BF508-40F5-4A58-B7E1-670970BC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AFCFBC-BC9E-4DD5-9460-6E8DBD65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A95AB-7DE6-402F-BDC8-E0C13D92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0F8CED-8C3D-4587-AD0C-3ECA5C96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8298C-CDF9-4E20-A6E5-B8B7F2C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B1B69D-386D-43A5-9B81-5B86D28D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CC6523-C4D1-4E2C-A646-BD5904A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9BB0DF-5609-4482-991D-A0C81FB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6869F3-2843-4F9B-A68B-AAAC5C5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EDA6D-DE09-4D2B-B125-7497BDF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2CE6DD-F1BC-435D-A211-3CA21317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CEAAF4-3B23-44E0-B984-8C25E19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4AAF2-A17C-4E79-9214-B98E58F1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67ABD-5AD2-47EF-A1BA-8AC87F12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C9130-6C07-4ACD-8685-54953BE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D299D-7259-4A83-8582-2DC4795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F24D64-A196-44DA-904C-89E9E922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88F9EB-73D3-4940-A155-C5767DC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D9D8B4-3E33-497D-8B9D-0BDA588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BE7F2-CEBE-4BC0-98FD-6888CBF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42F18E-8A75-4CD6-8FC2-AC0EDE7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2FF021-7680-4404-9C30-15AC358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2F9268-CABA-4A4F-95BD-80C66730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ADD6E1-5F87-424D-AD26-77A6DC3D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C5DB8-7192-42C8-A073-93DCD1C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C3DFBB-F54F-42CD-B253-CD2E9B1A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F14930-C95A-467A-99AA-E4C6AD219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82C08C-BDC5-494B-BC10-AC712D3E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21DF6E-E6E9-4E16-934C-6CAE290E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7D80E2-2872-4673-B800-371F7F4E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69F918-9420-4BA4-82B3-FD9436B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E2A091-D1AC-4B42-80C3-0DD7638B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123A2E-9DE0-458C-AA57-07F1AA1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C95578-8AE6-43F4-AB03-7729B89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701B01-D48D-4539-8ADE-AA584802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3FB31-685F-4F1E-92EB-2D715D7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84AC28-862F-435C-87FC-47BA84F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FAD713-779D-4CF2-B8C8-0AF12B3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E1A862-076E-4286-94D5-5C32F8200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1DD-122B-4F73-960C-8727278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4BC73-55DC-4141-A3FC-4C4F426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451D5-0F40-4D7C-947A-A3B4A34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62100-0CA6-4CEF-B06F-F652701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BA1C-42D6-42F7-8102-97AD696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6107-9049-4DA1-A916-DCC994443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91463-D1CB-4A46-AEC1-4E678DEE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0A094-F03E-426D-A10D-3B344344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DA621-3111-405C-8DD5-2FA3D58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D0BC1-115B-4B5A-AE94-F8ABF4E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89E8D-B993-4EA4-96DA-F1EE24E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F35-4EBA-4714-BB05-16C34FEE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2344E-78DA-4E82-A6F9-93E7BC1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036B5-2F9D-4072-9E62-D3C26CA6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2F446-F90C-4AAB-8C20-2ADE383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C81C-D68B-42A1-A7B8-D129E88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85378-6B9C-46CF-9605-3C1BEA7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C997E-E41D-4CE8-9485-638540E1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DDBE5-1B2B-43E5-8444-F3F5FF1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CEB-4F35-46E2-9F63-ACF7E03B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1C1-1CE6-4DE5-9249-B9F84FE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C89-EC9D-4BC9-81EF-91EBC4EF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648A4-283E-499E-AD97-40DB04C3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64815-25A6-4163-94C6-5DA7B07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150D9-A885-4068-B0A0-627AC55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30E30-A9CD-4B4E-BE9E-63497FFE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20537-13FE-4800-8A64-A303335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647A6-2C0E-4848-A7FF-D2F37B0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4EDA5-4F26-4D99-AA63-D035855A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32B31-8797-402D-9A51-8E9630F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9479E-8756-4FE3-9921-C3C9E5E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A15-6A3A-4687-B8A0-32CF6A9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3A393-55CC-41C7-BC88-AE6465C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01C80-48F6-466B-B381-DF9F8C80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EB114-514D-475A-A641-F2516E17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79B6C-317B-4390-AF31-F4874518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5C892-E2E8-4349-8FFE-432B9F9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631CA-E25A-4602-B4AC-6C1BA7A9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B59B1-D5DD-41A9-BE72-2FC9A76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21552-7C1F-4DDF-8D92-53E389C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2A3B7-CC8F-45BE-A8C8-EA6C645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3D16E-70C7-47F0-A65B-1509680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A16-4971-4B77-B979-F9481AEE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68DE7-3D10-4BD8-9DD3-9B2C904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894A5-966B-4255-B1FB-BA797F3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2F892-7661-4947-BA40-B741A31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511F4-3A58-4B88-95B6-B36AC680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02CD9-143C-424B-94C0-D6365640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60621-0570-42EB-B1B3-61A14BC4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875A6-01BE-4141-879E-BB16FA7C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EB809-EB62-4720-832B-325CF69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6BC42-3888-4EE1-9B5B-BB1EF69B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03E58-BF47-4434-822E-28DFB73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806-60C3-4EC8-8B79-513F7DD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818F1-53C9-4FD8-84E0-48FD580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F893E-820E-484B-905E-61D0E86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6ACEB-90F9-4685-9932-547AF17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4F76F-930E-469E-BF3C-7897A33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78B67-7A25-43C8-92E5-24C845F6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02E96-0C12-4E9E-8CFE-6DDD7142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F33DA-59C9-4ACA-B60D-F515F283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3A660-0B24-4D24-81CF-0DB292EA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DDCBE-77EF-4F28-AA96-1825BA6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15057-8B2B-43A2-B614-5662C85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AD4-A0EF-4797-9713-F989B04C35F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E9E-540A-44A4-8449-C62936DFA69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852-8EAC-46F6-8800-1D814656049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2D3-A2A9-4E60-9BE4-FEE2B72FCC6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AEA-2CEA-41FA-A8B2-8EE73E49674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43D7-FC4E-4D05-AA65-B1EA051708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F315-280D-425C-A48A-6C4B8F4D5C8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2F09-0B7E-4EC5-9C14-51493BF842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2264-5966-48EB-BAD3-95701071E03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FA95-A258-432A-9B07-9007CB63270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640-5E75-44A7-B846-91AADDB11AE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6415-9BDB-4DD1-90D1-0581D459A94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0CCF-C5B7-4863-A48C-FC57B9597C8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3EC6-728A-4D09-B1F2-2CE1170F4AE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E04-B332-40B8-9CFE-242002E17B9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494-3443-4EE0-9C39-DC3283D9FE8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67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69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9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0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1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2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3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4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5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6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7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1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2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3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4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5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6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7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7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742-23FA-4BC0-9E69-9D426C28814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0134-46A9-4FF5-AA10-F466B7827C1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D53B-9F5D-4E6B-B84B-952FAEBCC2E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0FB-C142-43C8-83A5-9853162D01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1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1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6C14-E43F-45E8-B5BA-41DD76BE425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33D5-B184-4EF0-9869-D07095F21C2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C2B-A52A-4BC3-89A3-FD035B89582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DBB-2120-4A8E-9D9E-DD651E932A7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FA4-6DAC-4008-95AB-0A8CB467A80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A96-759D-4425-ACB2-25EFFA4CDDC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69B-7B00-4631-B7F8-3C501CD800C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60ED-AEC5-449E-B804-9E344DB8486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50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51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53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4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85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0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861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3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8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7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868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9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0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1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2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3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4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5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6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77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87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81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88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8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89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89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93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89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0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901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3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90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Eskom CentralEast Supplier Development Localization and Industrialization (SDL&amp;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71"/>
                </a:solidFill>
                <a:latin typeface="Arial"/>
              </a:rPr>
              <a:t>Lifting Machine Operator Training Clarification Meet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71"/>
                </a:solidFill>
                <a:latin typeface="Arial"/>
              </a:rPr>
              <a:t>26 August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36320" y="1125000"/>
            <a:ext cx="852804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  <a:ea typeface="Times New Roman"/>
              </a:rPr>
              <a:t>NO PREQUALIFICATION CRITERIA: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This enquiry is open to EME, QSE and LME Service Providers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REQUIREM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All Tenderers must submit proof of their BBBEE Status based on the turnover on their Financial Statements (this is to verify that you are submitting the correct sworn affidavit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EME - Valid copy of  Sworn Affidavit or valid copy of BBBEE Certificate issued by CIPC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QSE - Valid copy of Sworn Affidavit/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LME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Joint Ventures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</a:t>
            </a: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  - the certificate must be in the name of the joint venture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DD7-937A-493E-BE92-4D74A1E9DA80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8839-8A5F-49F5-A043-71E5F03FF76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e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financial statements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  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DAD-4B06-4198-B7E6-7FE387D7C46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AE3-34FE-4993-926F-383B24FB4DA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BBEE Certificate for Exempted Micro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Content Placeholder 5" descr=""/>
          <p:cNvPicPr/>
          <p:nvPr/>
        </p:nvPicPr>
        <p:blipFill>
          <a:blip r:embed="rId1"/>
          <a:stretch/>
        </p:blipFill>
        <p:spPr>
          <a:xfrm>
            <a:off x="2828880" y="1436760"/>
            <a:ext cx="3594240" cy="5045040"/>
          </a:xfrm>
          <a:prstGeom prst="rect">
            <a:avLst/>
          </a:prstGeom>
          <a:ln w="0">
            <a:noFill/>
          </a:ln>
        </p:spPr>
      </p:pic>
      <p:sp>
        <p:nvSpPr>
          <p:cNvPr id="91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B72-097A-42BF-93AF-D8140068F01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6571-D003-44C3-B344-5A09A91DD2A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EE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B76-19E4-4242-84DD-E24904C74866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008A-E841-4A69-AECF-F89C7E02247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924" name="Content Placeholder 7" descr=""/>
          <p:cNvPicPr/>
          <p:nvPr/>
        </p:nvPicPr>
        <p:blipFill>
          <a:blip r:embed="rId1"/>
          <a:stretch/>
        </p:blipFill>
        <p:spPr>
          <a:xfrm>
            <a:off x="2676600" y="1436760"/>
            <a:ext cx="38988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s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90D9-BF13-49D2-BDD5-EA20CF5F4D0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75A-1A63-4135-9191-02319A6294D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N4 Electrical Engineering -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ntractors Letter to Commitment to SD &amp; L Requirements to be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igned and retur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IPC Docu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hareholder’s Certificate/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dentity Documents of Owner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bs Created and Retai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BD2C-534E-4BAF-BD15-8D5A8C58635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BA30-AA16-4D77-A02E-CD762151AF5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Che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Calibri"/>
                <a:ea typeface="Calibri"/>
              </a:rPr>
              <a:t>(This check list can be used for guidance on submission of documents for       SDL&amp; I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254-4932-4E55-9BC4-F3B3467CCF9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328-32B6-4B04-8754-F2B1004A34A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900000" y="3213000"/>
          <a:ext cx="7128000" cy="3000600"/>
        </p:xfrm>
        <a:graphic>
          <a:graphicData uri="http://schemas.openxmlformats.org/drawingml/2006/table">
            <a:tbl>
              <a:tblPr/>
              <a:tblGrid>
                <a:gridCol w="324000"/>
                <a:gridCol w="5518080"/>
                <a:gridCol w="1285920"/>
              </a:tblGrid>
              <a:tr h="270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Document to complete and/or to subm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Tick Box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worn Affidavit or</a:t>
                      </a: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Certified</a:t>
                      </a: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BBBEE Certificate (Mandatory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CIPC Registration Documen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Identity Documents of owners of Company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hares Certificate where applicable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Jobs Created and Jobs Retained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kills Targets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igned Commitment Letter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Latest Financial Statements corresponding to the financial date reflected on the sworn affidav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031-5B36-4B20-9FD7-45FE4B40D877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CE8-F8B1-4EFA-8B7B-9EAB8519777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Lungile Mathetha</cp:lastModifiedBy>
  <cp:lastPrinted>2018-11-13T06:26:01Z</cp:lastPrinted>
  <dcterms:modified xsi:type="dcterms:W3CDTF">2022-08-25T10:00:25Z</dcterms:modified>
  <cp:revision>8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dd17a35c-9c67-4dda-b948-74ee3b80cf57_Application">
    <vt:lpwstr>Microsoft Azure Information Protection</vt:lpwstr>
  </property>
  <property fmtid="{D5CDD505-2E9C-101B-9397-08002B2CF9AE}" pid="3" name="MSIP_Label_dd17a35c-9c67-4dda-b948-74ee3b80cf57_Enabled">
    <vt:lpwstr>True</vt:lpwstr>
  </property>
  <property fmtid="{D5CDD505-2E9C-101B-9397-08002B2CF9AE}" pid="4" name="MSIP_Label_dd17a35c-9c67-4dda-b948-74ee3b80cf57_Extended_MSFT_Method">
    <vt:lpwstr>Manual</vt:lpwstr>
  </property>
  <property fmtid="{D5CDD505-2E9C-101B-9397-08002B2CF9AE}" pid="5" name="MSIP_Label_dd17a35c-9c67-4dda-b948-74ee3b80cf57_Name">
    <vt:lpwstr>Public</vt:lpwstr>
  </property>
  <property fmtid="{D5CDD505-2E9C-101B-9397-08002B2CF9AE}" pid="6" name="MSIP_Label_dd17a35c-9c67-4dda-b948-74ee3b80cf57_Ref">
    <vt:lpwstr>https://api.informationprotection.azure.com/api/93aedbdc-cc67-4652-aa12-d250a876ae79</vt:lpwstr>
  </property>
  <property fmtid="{D5CDD505-2E9C-101B-9397-08002B2CF9AE}" pid="7" name="MSIP_Label_dd17a35c-9c67-4dda-b948-74ee3b80cf57_SetBy">
    <vt:lpwstr>EdmundDH@eskom.co.za</vt:lpwstr>
  </property>
  <property fmtid="{D5CDD505-2E9C-101B-9397-08002B2CF9AE}" pid="8" name="MSIP_Label_dd17a35c-9c67-4dda-b948-74ee3b80cf57_SetDate">
    <vt:lpwstr>2020-11-26T14:18:48.2663455+02:00</vt:lpwstr>
  </property>
  <property fmtid="{D5CDD505-2E9C-101B-9397-08002B2CF9AE}" pid="9" name="MSIP_Label_dd17a35c-9c67-4dda-b948-74ee3b80cf57_SiteId">
    <vt:lpwstr>93aedbdc-cc67-4652-aa12-d250a876ae79</vt:lpwstr>
  </property>
  <property fmtid="{D5CDD505-2E9C-101B-9397-08002B2CF9AE}" pid="10" name="Sensitivity">
    <vt:lpwstr>Public</vt:lpwstr>
  </property>
</Properties>
</file>